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9756E-F346-4BDF-98EA-B91AACF6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543F5-171C-46C5-825F-F2C9CEBC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5E2F3-C59A-4AD5-86DC-8993C54A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C5DB5-A6BE-4648-8DB5-EFD086B6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870D3-290E-439D-AE27-5AEA0B63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80F14-A244-4232-858C-5CF232DF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EAF67-39DB-43CA-AD3F-BE971943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77773-7152-4121-B62A-565DB24E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D135E-D411-475F-B22B-8C31A4DD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11789-8C46-4B62-94BC-FB7A586F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9F012-4C69-479B-9F49-D4D1388C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93ADD-8A5C-4FE0-9826-E29ACAF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E8B4D-D457-4B03-B2C7-3AE71DF4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3A05D-440D-4251-B945-7AD7E496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3C872-2D6E-4B71-8F5B-ED25E121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3FC81-2C33-46E1-A113-9C043598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481AE-AF8B-4451-8287-BDE7109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6BB08-D931-4B5C-BF25-EE9AD85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1AC4A-8278-47F5-ADC9-31B1631B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2D957-E00B-47A3-B352-93C9B69A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8B7EE-085A-460A-90CE-E725FAB4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26606-F6E6-4A27-8BAF-0E5D6F3D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8035B-262F-4697-A6ED-328FDF53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9FBB2-3E21-4CE3-8102-B6247793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40C0F-7DA2-40D9-B687-36200F6D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B6A90-2FE0-44F5-AE64-E34E71C0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3FA69-5356-4B71-A5D0-51BCB08D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CD4F0-A525-4CDA-93D3-5AC92B7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B6F5C-7410-400D-9BC8-16634282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19339-9BF3-43D6-84CD-0B0535E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9A8-F8D6-4729-BD8A-61C55CF9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1F4FE-2B6F-440E-8B00-C3C18890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AF948-9092-42B9-90D0-C095C373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27BA9-CC3D-4242-9F76-33466C39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A4D8-029F-4291-83E6-49BACE8E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49623-695E-4412-8A24-38EEBFA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AB2F4-AA0B-4E24-B47B-686695A4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39E1B-4418-4B74-A02D-E8229CF0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4A439-6042-45F3-9236-1AB98C7A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C5F97-AACC-4B16-9411-6D4110BE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AFC5C-1930-4F20-8D0B-6B016CD8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F7E-6B9C-4AA2-99F8-A6CA8E94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9C825-9493-43B7-AA9D-92CDAE88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84CE2-DC84-4C78-BAEF-462F0D6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9190C-6A61-495C-AEDF-FF0E9EC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B27D7-2570-4DC6-9C3B-E6FE4DCE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E55F7-9694-4A5C-A360-8464E11F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775EF-1253-44DE-BE7F-85FBF3B5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4DE4D-8074-46F4-A510-111DE06F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6209D-B6A5-4640-A614-B3A8D5E1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79C6E-132D-41C5-BBEB-1102A51B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515A0-4EB5-4D85-B1BE-B0E3D755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552-6A97-4D02-BD0A-5FD0AC73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1DD1C-05DC-42F5-8453-5AC1C735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56453-57CA-4384-A073-081F05D6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CF4B4-E6D4-4D5E-9D7A-262ECC31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1217F-2CB9-4CFA-AEBD-84F6CCF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559BC-172C-4ED1-AFDD-6DADF53C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DB280-B307-479D-BBCD-836D75D7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726F7-81EB-4AF7-AEF7-7DDE73B0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0AF92-7761-4829-8C43-257A8984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27C09-7819-4563-9334-5644644B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D9F0C-D346-4EBA-BAB6-6FEC1FA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721-D031-4ED0-BCA3-EA75F596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8089C-B166-47A5-B43A-658F3F8D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29EAC-BCC0-458B-9516-87DE9B7F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46783-7142-4279-964F-DE3ED8E3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D97CE-FAAD-4EE3-817A-EA111DE5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6AA1A-DE0F-46B2-8956-AED5D8D8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945BE-81D5-47EC-A946-9A7A3054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59F8B-947A-4FF5-B665-E456C828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0D89E-BFCA-4C19-85EC-4DCD1383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B67DA-4AFA-4334-BA5B-50DC3318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45C7C-3CC8-4ACD-896F-68B5BF9C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55F-97BA-414A-9686-49D18E6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63831-666D-49D0-886C-9BC96982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94610-5DE1-42ED-A399-139E3150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79715-86CF-4F82-AA23-38733B6F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03D49-DC81-45B8-B6AC-EA866A8E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7FF75-4A85-453F-8235-ED8881D8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733A8-F105-4CB8-B5C0-08DDB8CD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2638C-7DA7-4C80-A313-B68D988A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A4533-4F67-4155-95CB-93A7EDB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AB9D5-C024-46ED-BDE1-D3347B7C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50447-54E8-401C-A9F2-1CE4B512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FE3-6621-4EE1-9AD0-F34971BE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64308-DB62-4A77-A632-7E33CE9A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85CD4-E875-4C58-9562-B4BB47DC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153E3-A4C6-4A8B-8297-5A8E0AE8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12BFC-EDE0-4228-87F3-10E39390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D0AF5-3A75-448B-932F-21E3ECA2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077F5-9DE1-4214-99A2-FC950084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3AA6F2-A123-4D7E-A438-B669FB52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6B19A-CC49-4D3B-A874-5117E00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443E2-73B2-4DC5-85EA-A139E15B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8F530-E4DD-4816-A8CD-E7EB5D9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BC1-7E8F-47AB-992D-DFAE4BCB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C3485-AA38-45A1-8C15-2B036FB5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DAFB1-A26F-4A13-9F73-A49107E0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74367-CB40-428D-9C8E-5C03CBB7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50603-5430-4751-B1F6-BD5102FF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4EE16-2050-464D-93FB-D6CC0DDD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10DCB-0C48-4B79-987A-B4DC97EB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DC301-5A44-479A-BC21-3AF268D0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0EEF0-B788-435C-8F9B-D3E53C0D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B619D-1351-411D-BEDC-FECD42FF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DD609-A12D-49BD-9A26-288A8EF4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4C4-1B92-4C41-A313-4AE1D85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BA42A-F4F4-481F-BDFD-54BB439B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AE88A-9050-4863-85EE-D2269CBB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30AB2-4725-4FE7-8655-C7ECD3D6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570ED-8699-4A3A-8A13-0C4978B8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1FFF7-CF9B-4C69-A96B-DA461F64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15E5B-EE4D-490D-AFC6-B1DB5578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66E33-9805-4E1D-AA4C-FE04F94F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2D0E8-03D8-462A-A833-6997CCD6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F8A60-8A51-4409-B7CE-EBFEA285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F86C4-5EF3-4399-B30C-038345FD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E2A-1BE6-4073-8105-4231E04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EA712-F824-4E52-9F64-78C6151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BECB5-8380-4EFD-8F78-E23AF0A1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A61C8-93A6-4C0B-931A-E774003B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8012E-6E72-49C6-83BF-5BF2BFC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FB2E2-DB00-498C-A461-4B62342F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6BCEE-AA27-43D7-ADF7-774D409D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DCA31-D1F9-4AC3-83C3-CC04730E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8C28B-11FF-4122-AB2E-DD446CE6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03320-D465-4BC7-AB39-4E0396E0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60D106-E2DB-4A70-ACAD-20682C95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0BD-2D49-4CFF-A919-891F724B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4EBDF-1295-4343-924E-EA896910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1E575-8118-4727-AB17-1F3B608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D16C5-3EA1-4FA5-92E4-4BB37E20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BED81-1D7A-43ED-B45F-BF5F0054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95127-9591-491B-8631-C5070F26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74130-BC38-408D-996C-F97DC946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961CE-D8D3-45A5-BCF6-1C8BE8C4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ABCCC-106C-4310-9FBB-D35EF391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F9BAD-FD40-48FF-AB9D-4CEA923F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8B2541-FE7F-495B-A932-E50B0298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DC0-8084-40F7-A1DF-CF9F4B15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03FC4-6BC4-4552-AFD9-F3F78666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5AD24-D09C-45B5-8DA5-969F8E14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92115-99F5-4500-99BB-FB2E322C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F7A5DE-BEBB-440A-9647-FE838522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62B427-9CDC-4A04-AFFD-771C05CE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E05CD-8381-46F8-BE35-7254A97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D05D2-6E61-4B52-8ECF-173A27D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AF808-6044-4DA9-860A-F6A506AD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EBC3B-6455-4D87-9283-D3C89A55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120421-97A9-46BF-90B6-B56F2EA1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D76-0116-4722-A297-15443FE9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A85453-AB7B-41F8-9172-0E4E6FDD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DD145-44BD-40D2-B5FF-75133FF7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2D7F8-EC63-4F96-93F7-08E40FD9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BCBA3D-9201-488E-ABE4-80C8876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A75F3-8636-437C-9E85-4C6CF079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EFD155-05AB-48A9-AC27-0BA57CD2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8DE46-E814-4356-AE26-78B8E0A4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141C2-40E9-469F-A254-D6AD8808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C79403-524C-4CBD-8F74-D0F4990F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D9A5E-2331-40A9-BCB2-15255EEF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B0C7-89A6-4786-B9E8-3029A468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BE671-E454-4E89-87AF-C37B0EBD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E32A1-E1A4-439F-ADF5-CA8B5EF4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B15DD8-3722-45BF-A096-D9BC030F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138F63-BB8B-4767-AEF5-7DF050F8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CB79B2-B700-402A-850A-5AB3828A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C1C77F-DB0E-4399-B1AE-EB7A526F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4A011-10A5-427C-B262-5974CCDC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4FE6B-CEA1-4C1E-9461-6E0E2680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F4BC1-7C41-4F48-A34D-02AFAF99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53E82-C497-4DE2-AA4B-270B877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0230-CCD4-41AA-AB93-B06AE532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A735B-3DB5-41A8-B239-8509433D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F7D64-5EA4-4BA4-AE0C-4D1F1A0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97892A-E6F9-423E-B6AE-93A5054D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35A78-1089-4F06-8BFC-C4BE8A8A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BEA7C-E03F-47A0-A403-935755FD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0F3A06-C91B-40A2-903E-1A8CFC38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E1CAED-7E61-4879-946E-B5934ED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DDAF1F-AD12-465D-99EB-F892FACB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F622B6-E46E-48A1-BE0C-A80F1783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98348-1FA2-4730-87BD-32B47694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B6F7-4425-4337-B2A9-871E32C5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681E54-6E3D-4A3F-B0E7-288160A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1FA8A5-436B-481C-BE31-2C3676EF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F13764-C17D-4FDC-881F-8F576BAF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081762-24EE-4442-9FED-5316C8D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A478B1-F612-4771-9CD5-7B36969F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126643-DEDA-4B50-BE10-9620E20E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D83CC6-3284-4CD0-8091-749F7AF1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E94CB-B261-469D-836E-3DCBAF65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9E079C-FC64-4E49-902E-207367CA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56EE9F-CF9B-4B18-BA42-148C35FF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6C45-D881-400B-B74D-D5BCBB0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0B16E4-0EF4-468C-AD98-94971415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58DF23-4BB7-41A5-8C9E-6BA9AFB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6CFB98-3019-49A1-97A1-7194D424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B987F0-906C-47D5-AA94-7FF498E6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A6D6E6-5E1F-41A6-931E-DAF81642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6EF855-964A-457A-A560-E3D9D0A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F248A2-C289-4B7A-A04D-B4FE647B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3DD901-023A-4CDF-8041-2A47BF15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A85DA-FF0B-4F9A-833C-60AEB361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8628-AC63-4492-89EB-EA3B086E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BDF5-28F2-4A34-B731-C0F9FCF0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B76D-36C0-405D-98C3-B622ACF4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3939-E1F3-4FF5-A55E-EA01852D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A0B1-4ABF-40B0-81BC-5983AD9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3C34-6E84-43B0-9250-F871E8A1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E577-A523-43B5-9742-D4E29A40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7745-DC73-4DB1-B0B1-269B9105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5E96-B445-40F6-BABF-D46442A1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463E-B119-4C35-8597-25FCA09E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9A4E-D17C-48B2-BD30-6C23DF27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961F-F2E6-47C6-8FAC-A6EEB78B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260A-FDC2-416E-AB93-DF3EFBBE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71C2-3B4A-40BC-811F-D73F40E2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BE72-9AB5-484A-88AF-51C9441A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5404-9EB0-4AE6-9024-16C2198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AF3B-78F0-4B1D-96F9-2661B73C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A21A-192F-46ED-AACC-6CD7704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3A76-BC10-4FD6-A9A2-44ED96E9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CDD1-63AB-4C83-B0FE-841208D2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7AEF-8764-4951-A14D-85A7F418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9E730-C47C-42ED-A541-EAD00FC2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70B5-94BE-401B-9A14-1D798EEE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6196-28AE-4E53-A789-9CAFB383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8B94F-4B7F-4B54-8E8A-1E3C77DE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7FAF-0C41-4D8D-BCCD-59990ADA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50AF2-C20D-402D-99A2-E6B7E0EC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EC54-7FBA-46C2-AD8D-4F51412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DF0A-5C90-4918-ABBF-3F6059E9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7A96-F6A4-421E-A431-8B6FBEA0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0708-FE39-40A2-8F17-0F293DBA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6186-421A-4A93-93B0-FEE7288B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1F82A-0D83-46E4-B54E-8F3D6387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5E7B-401A-484E-BCEC-2D3B97A5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5506-2969-44EB-8600-D7D5AD44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1636F-F09E-4D6D-B6AF-D8A9B5B9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FB8D-18BB-405F-AA5A-090DD57E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1A702-4DD8-49B3-A27F-A5D79C05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C800A-3A84-463B-9C00-0582280D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57B5-1B88-48DA-85A4-E35E4CE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27B2A-6A95-4D6F-A281-02267020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4C9A6-15C4-4BAC-A984-1C5352B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546FF-B90D-4905-9BF2-76934FC7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6052-3EC8-4D5F-B64F-E12AD5CB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B9B2F-65C1-45B8-93C7-859011E3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98B89-EC72-4365-BD8B-C20068A9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D5798-CCD2-49C6-B11D-792DD649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86C04-BC5B-4042-80C4-53BC654A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19796-A453-4DB7-BF9C-FED12F8E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627A5-C63E-41D3-892B-35160744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CA619-9903-4519-BA54-94F45C4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C03E-F8B0-4661-B9F9-AB98667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E94BB-4626-4137-A375-C7DB449A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ED4E6-915A-4354-8CD6-3A6E49B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91F1F-266B-41F4-897F-554A8955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388E-DFCE-45C7-A6FE-4D9DD603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9FDE3-BDFC-4CCB-9CFB-588A50C6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EFC46-D162-4783-AAE3-C63C9F2E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567A-E06F-48D9-B1E6-CA29915E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076C2-6101-422A-8661-B5348B06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3086F-EEA0-4B52-8AC6-7DEC67FE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6D6E0-9FEE-4583-83ED-B57E3A80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871E8-06AC-4333-BB68-C61D3CE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069B9-6A57-4990-B870-B9B9C5FA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A3C5B-47F1-423E-9E77-2A5FA40A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BD46-ED23-469B-8C38-44E64C9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C2D5D-D2EC-49C9-8A9E-043D769E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BF619-7666-42D7-851E-A2E21DF0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877E-9D3B-4979-A474-5B371161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78474-5F31-4753-AEF0-9BBF16B5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FB0CC-3A49-4B65-AAA5-BE088275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DDE7-4968-435A-ADC1-CEDFCA62CE0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1AB5-A468-4B07-936C-F215A63B78A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4D07-BE07-4683-8B6F-D702C9D1D48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2CBE-2CC9-43F9-B5BB-1F324CB625B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2EB0-C88A-47B4-ACCD-77A18A4986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35B7-1525-4DD8-B59A-354BD779FB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2067-DF21-4B45-9F39-28FB7CA02C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56D4-288F-488B-B6F3-C1235C5C68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A124-A713-4F18-8941-09F22E0595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E739-B611-4F3D-AE71-867C603386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47F5-5C17-4D14-9FB9-D94A28CE1E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B221-D5B9-429A-9ECA-21148C9E523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D76-77FC-4C4A-8642-5C6A631FF8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9B19-0A0B-41AA-9C10-C7A6858585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FF54-9B98-413B-9F93-D161AFF0D5D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2B8-AE39-40FD-B4BB-A252B6DBA8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2A8-6D53-470C-8076-3AA2418A543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CA18-8C0E-45FD-B600-2FC5249C545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490D-42FB-4F9C-964F-B58945C1D8A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39FD-9D42-415E-9BC3-6926B6FDCEC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2BF3-2552-4674-9500-8656821F232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80C2-90CA-4E7A-ACA8-A99476ED1BD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9EB3-3285-4138-BDAB-B438D288382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2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5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6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9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0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标题 1"/>
          <p:cNvSpPr/>
          <p:nvPr/>
        </p:nvSpPr>
        <p:spPr>
          <a:xfrm>
            <a:off x="50004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利息与利率问题</a:t>
            </a:r>
            <a:endParaRPr b="1" lang="en-US" sz="5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386240" y="1574640"/>
            <a:ext cx="42624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1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欢乐农家游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百分数（二）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有关国债、保险费的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求利率或存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63720" y="1521000"/>
            <a:ext cx="70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学校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学生投保“平安保险”，保险金额每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保险期限一年。按年保险费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4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，全校应付保险费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12"/>
          <p:cNvSpPr/>
          <p:nvPr/>
        </p:nvSpPr>
        <p:spPr>
          <a:xfrm>
            <a:off x="2367000" y="3753000"/>
            <a:ext cx="46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00×0.4%×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全校应付保险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Box 1"/>
          <p:cNvSpPr/>
          <p:nvPr/>
        </p:nvSpPr>
        <p:spPr>
          <a:xfrm>
            <a:off x="880920" y="126828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小明家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若存入银行，一年的年利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2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若买国债，一年的年利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7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这些钱全部用来买国债比存入银行一年要多收入多少元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矩形 6"/>
          <p:cNvSpPr/>
          <p:nvPr/>
        </p:nvSpPr>
        <p:spPr>
          <a:xfrm>
            <a:off x="2496960" y="3273480"/>
            <a:ext cx="459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000×3.25%×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2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000×3.7%×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2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些钱全部用来买国债比存入银行一年要多收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矩形 10"/>
          <p:cNvSpPr/>
          <p:nvPr/>
        </p:nvSpPr>
        <p:spPr>
          <a:xfrm>
            <a:off x="954000" y="1268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杨光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存入银行，定期三年。经计算，到期后，他将得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8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的利息。这笔存款的年利率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矩形 4"/>
          <p:cNvSpPr/>
          <p:nvPr/>
        </p:nvSpPr>
        <p:spPr>
          <a:xfrm>
            <a:off x="1663560" y="3465360"/>
            <a:ext cx="65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82.5÷3÷3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.2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笔存款的年利率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.25%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矩形 1"/>
          <p:cNvSpPr/>
          <p:nvPr/>
        </p:nvSpPr>
        <p:spPr>
          <a:xfrm>
            <a:off x="792000" y="1268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王兵的爸爸为王兵存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教育储蓄，当时的年利率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6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到期后，连本带息共取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10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那么存期是几年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2"/>
          <p:cNvSpPr/>
          <p:nvPr/>
        </p:nvSpPr>
        <p:spPr>
          <a:xfrm>
            <a:off x="1062000" y="3357720"/>
            <a:ext cx="70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10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0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07÷(10000×3.69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存期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12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13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14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1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6" name="矩形 19"/>
          <p:cNvSpPr/>
          <p:nvPr/>
        </p:nvSpPr>
        <p:spPr>
          <a:xfrm>
            <a:off x="1017720" y="1319040"/>
            <a:ext cx="721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丹丹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打算存入银行两年。现有两种储蓄方法：第一种是存两年，年利率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75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第二种是先存一年，年利率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25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一年到期时把本金与利息合在一起，再存一年。哪种储蓄方法得到的利息多一些？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7" name="矩形 4"/>
          <p:cNvSpPr/>
          <p:nvPr/>
        </p:nvSpPr>
        <p:spPr>
          <a:xfrm>
            <a:off x="1494000" y="3213000"/>
            <a:ext cx="65084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种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0×3.75%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二种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0×3.25%×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5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20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5)×3.25%×1≈67.11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7.1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2.11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2.11&lt;150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第一种储蓄方法得到的利息多一些。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2:38Z</dcterms:modified>
  <cp:revision>1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